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8F7B-51C7-4F4E-8FEB-01EC27F3F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752-A005-4941-A95A-80DEB051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181-A00F-440A-BA32-AD3DD521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CD8-F570-4D5C-9654-6F2C9690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90D-8E13-4D30-8595-904F79D9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A47-3317-4A5E-A34B-72DFAC22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AF7-80FB-48B4-BD0C-C3B2201C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FC5-BB9C-4726-AFEF-A2BD5BCC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B4B-2360-4360-8CC1-76CAD024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C20-4299-45A8-885D-77035C7A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4D3-18BF-4A55-B008-49C11869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6CB-6CFF-4A6C-A365-AC58911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A59-8D5C-42DF-B4EE-6C89FAF0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4F2B-1E2A-4BCE-8369-A0882B629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73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4720" y="166680"/>
            <a:ext cx="8134560" cy="652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101080" y="189000"/>
            <a:ext cx="817560" cy="93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теплопостачання міста Луцьк розроблена згідно з «Технічним завданням на розроблення схеми теплопостачання», підготовленим спеціалістами державного комунального підприємства "Луцьктепло" та узгодженим з виконавчим комітетом Луцької міської ради, на виконання Закону України “Про теплопостачання” і у відповідності з Методичними рекомендаціями з розроблення енерго- та екологоефективних схем теплопостачання населених пунктів України (затверджені наказом Міністерства будівництва архітектури та житлово-комунального господарства України від 26 квітня 2006 р. № 1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ий ефект обумовлений заміщенням природного газу на альтернативні види палива, зокрема відходів деревини та електроенергії, а також встановленням високоефективного газового обладнання. При копітальних затратах 135,5 млн.грн. річна економія коштів складе – 46,7 млн. грн. Скорочення споживання природного газу – 20,66 млн. м3/рік. Термін окупності заходів схеми теплопостачання складе – 2 роки 9 місяц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. Луць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селення – 206,5 тис.ч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– 42 к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отяжність – 15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Ширина – 1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Житловий фонд – 11121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5 поверх. І вище – 2460 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ж.ф. – 4041.3 тис. 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333360"/>
            <a:ext cx="19512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5104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а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орочення споживання природного газу за рахунок заміни існуючого теплоенергетичного обладнання на високоефективне газове обладнання та перевід газових котелень бюджетної сфери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вдання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конструкція системи теплозабезпечення м. Луцьк 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іквідацією нерентабельних підвальних котел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лаштування високоефективного газового устат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д газових котелень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133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еплова потужність котел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а – 487,93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єднана – 259,36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котелень – 6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встановлених котл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8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27 одиниць з терміно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ксплуатації більше 20 років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ЦТП – 51 одиниця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ІТП – 3 одиниці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плові мережі – 138,9 к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4360" y="981000"/>
            <a:ext cx="49734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3353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2"/>
          <a:srcRect l="0" t="0" r="-49" b="-214"/>
          <a:stretch/>
        </p:blipFill>
        <p:spPr>
          <a:xfrm>
            <a:off x="324000" y="4076640"/>
            <a:ext cx="4140000" cy="23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211640" y="1557360"/>
          <a:ext cx="4932360" cy="53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557360"/>
                    <a:ext cx="4932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894800" y="260280"/>
            <a:ext cx="100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трати на енергоносії в місті Луць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2011-2025 гг.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ноз росту затрат на оплату ПЕР до 2025р.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17672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43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557360"/>
          <a:ext cx="4537080" cy="4199040"/>
        </p:xfrm>
        <a:graphic>
          <a:graphicData uri="http://schemas.openxmlformats.org/drawingml/2006/table">
            <a:tbl>
              <a:tblPr/>
              <a:tblGrid>
                <a:gridCol w="865080"/>
                <a:gridCol w="934920"/>
                <a:gridCol w="1008360"/>
                <a:gridCol w="865080"/>
                <a:gridCol w="863640"/>
              </a:tblGrid>
              <a:tr h="158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 енерго-носі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 за од (м3, кг, л, кВт*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о-жність палива, ккал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-ожність паливакВт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іна кВт енергії (грн/кВ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гіл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о щ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ене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356000" cy="492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лена Схема теплопостачання включа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яснювальну записку з аналізом загальної характеристики м.Луцьк; аналіз існуючої системи теплопостачання міста; потребу міста у тепловій енергії з урахуванням перспектив розвитку; загальними пропозиціями по впровадженню заходів щодо модернізації і реконструкції існуючих джерел теплової енергії і теплових мереж; рекомендаціями з теплопостачання міста на розрахунковий період; варіантами схем теплопостач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чну частину із схемою теплових мереж м. Луць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розрахунки ефективності інвестиційних проек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е обстеження систем теплопостачання міста у період 2007-2009рр. Із описом бази даних енергоспоживання; зведеними формами обліку витрат енергоресурсів; тарифами; формами приведеної вартості енергоресурсів; питомими витратами енергоносі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ект перспективного паливно-енергетичного балансу із тарифними прогнозами; планами реалізації інвестиційних проектів; паливно-енергетичними балансами 2007-2009рр. та на період 2010-2025рр.; вартісними балансами 2007-2009рр. та на період 2010-2025рр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рограмою поетапного впровадження заходів з оптимізації схеми теплопостачання, енергоефективної реконструкції об’єктів централізованої системи теплопостачання м. Луцька та зменшення споживання природного газу передбачаються до реалізації наступні захо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 котельних агрегатів із заміною газо-пальникових пристрої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котельних із заміною низько ефективних котлів – типу НІІСТУ, Універсал, Е 1/9 на сучас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відація малоефективних котелень, влаштованих в підвалах житлових будинк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і реконструкція малоефективного обладнання та перехід на місцеві, альтернативні види пали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міна застарілих кожухотрубних швидкісних водопідігрівачів на більш ефективні теплообмінники пластинчатого тип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влаштування індивідуальних теплових пунктів (ІТП) та усунення «перетопів» в житлових будинках в перехідний період (осіннє-зимовий та зимово-весня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ня частотних регуляторів на насосах, вентиляторах та димососах, що працюють із змінним навантаженн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ення втрат в існуючих мережах і зниження ремонтних та капітальних витрат за рахунок застосування енергозберігаючих технологій і заміни існуючих, що відпрацювали свій ресурс трубопроводів на попередньо ізольовані, що мають більш тривалий термін експлуатації та дуже низькі тепловтра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ів споживання природного газу на 33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у шкідливих викидів та парникових газів в атмосферу та зниження екологічного навантаження на навколишнє середов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46:52Z</dcterms:created>
  <dc:creator>Дмитро</dc:creator>
  <dc:description/>
  <dc:language>en-US</dc:language>
  <cp:lastModifiedBy>sheremeta</cp:lastModifiedBy>
  <dcterms:modified xsi:type="dcterms:W3CDTF">2012-06-15T11:26:38Z</dcterms:modified>
  <cp:revision>12</cp:revision>
  <dc:subject/>
  <dc:title>ЛУЦЬКА МІСЬКА РАДА</dc:title>
</cp:coreProperties>
</file>