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7D38-B237-4D27-82D7-A620B82DB3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F57-121F-4EBF-BA0D-0CA064D1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078-28C1-419D-9464-9DF8C308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4B9-F618-4373-AC8D-3638C1ED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1252-6153-4D5C-82CA-C1EBDC18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C7A3-98D9-4FCB-B5F1-A51D7D88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076-DB82-4C58-A0E5-4ED67361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4EA0-B461-4E00-9B13-E36B6C37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334-7906-41E3-98C7-5A19E7DF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990-6DE9-42E1-B517-000F971E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5C5-A391-4407-8C8F-A1796066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62B-45D8-466C-BA76-F0216B97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3F4-FF54-4306-B512-118A525B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DBC1-7639-400F-9FA1-5AAFB5E83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5732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4720" y="166680"/>
            <a:ext cx="8134560" cy="6524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101080" y="189000"/>
            <a:ext cx="817560" cy="93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353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а теплопостачання міста Луцьк розроблена згідно з «Технічним завданням на розроблення схеми теплопостачання», підготовленим спеціалістами державного комунального підприємства "Луцьктепло" та узгодженим з виконавчим комітетом Луцької міської ради, на виконання Закону України “Про теплопостачання” і у відповідності з Методичними рекомендаціями з розроблення енерго- та екологоефективних схем теплопостачання населених пунктів України (затверджені наказом Міністерства будівництва архітектури та житлово-комунального господарства України від 26 квітня 2006 р. № 1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ономічний ефект обумовлений заміщенням природного газу на альтернативні види палива, зокрема відходів деревини та електроенергії, а також встановленням високоефективного газового обладнання. При копітальних затратах 135,5 млн.грн. річна економія коштів складе – 46,7 млн. грн. Скорочення споживання природного газу – 20,66 млн. м3/рік. Термін окупності заходів схеми теплопостачання складе – 2 роки 9 місяц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. Луць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Населення – 206,5 тис.ч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лоща – 42 км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ротяжність – 15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Ширина – 1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Житловий фонд – 11121б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5 поверх. І вище – 2460 б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лоща ж.ф. – 4041.3 тис. м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9640" y="333360"/>
            <a:ext cx="1951200" cy="223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92360" y="476280"/>
            <a:ext cx="51040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ета схеми теплопостача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корочення споживання природного газу за рахунок заміни існуючого теплоенергетичного обладнання на високоефективне газове обладнання та перевід газових котелень бюджетної сфери на альтернативний вид п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вдання схеми теплопостача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конструкція системи теплозабезпечення м. Луцьк 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ліквідацією нерентабельних підвальних котел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лаштування високоефективного газового устатк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евід газових котелень на альтернативний вид п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12000" y="260280"/>
            <a:ext cx="1133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еплова потужність котелен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тановлена – 487,93 Гкал/год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иєднана – 259,36 Гкал/год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котелень – 60 одиниць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встановлених котлів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180 одиниць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127 одиниць з терміном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ксплуатації більше 20 років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ЦТП – 51 одиниця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ІТП – 3 одиниці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плові мережі – 138,9 км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880920" cy="100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3024360" cy="259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84360" y="981000"/>
            <a:ext cx="49734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743280" cy="233532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5" descr=""/>
          <p:cNvPicPr/>
          <p:nvPr/>
        </p:nvPicPr>
        <p:blipFill>
          <a:blip r:embed="rId2"/>
          <a:srcRect l="0" t="0" r="-49" b="-214"/>
          <a:stretch/>
        </p:blipFill>
        <p:spPr>
          <a:xfrm>
            <a:off x="324000" y="4076640"/>
            <a:ext cx="4140000" cy="23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211640" y="1557360"/>
          <a:ext cx="4932360" cy="530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1557360"/>
                    <a:ext cx="493236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894800" y="260280"/>
            <a:ext cx="100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трати на енергоносії в місті Луць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2011-2025 гг.)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ноз росту затрат на оплату ПЕР до 2025р.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88092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4176720" cy="2438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2349360"/>
            <a:ext cx="4321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1557360"/>
          <a:ext cx="4537080" cy="4199040"/>
        </p:xfrm>
        <a:graphic>
          <a:graphicData uri="http://schemas.openxmlformats.org/drawingml/2006/table">
            <a:tbl>
              <a:tblPr/>
              <a:tblGrid>
                <a:gridCol w="865080"/>
                <a:gridCol w="934920"/>
                <a:gridCol w="1008360"/>
                <a:gridCol w="865080"/>
                <a:gridCol w="863640"/>
              </a:tblGrid>
              <a:tr h="1585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а енерго-носі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н за од (м3, кг, л, кВт*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-творна спромо-жність палива, ккал/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-творна спром-ожність паливакВт/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Ціна кВт енергії (грн/кВ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гіл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о ще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з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енер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4356000" cy="4929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956720" y="26028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облена Схема теплопостачання включає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яснювальну записку з аналізом загальної характеристики м.Луцьк; аналіз існуючої системи теплопостачання міста; потребу міста у тепловій енергії з урахуванням перспектив розвитку; загальними пропозиціями по впровадженню заходів щодо модернізації і реконструкції існуючих джерел теплової енергії і теплових мереж; рекомендаціями з теплопостачання міста на розрахунковий період; варіантами схем теплопостач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чну частину із схемою теплових мереж м. Луць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ко-економічні розрахунки ефективності інвестиційних проек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нергетичне обстеження систем теплопостачання міста у період 2007-2009рр. Із описом бази даних енергоспоживання; зведеними формами обліку витрат енергоресурсів; тарифами; формами приведеної вартості енергоресурсів; питомими витратами енергоносії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ект перспективного паливно-енергетичного балансу із тарифними прогнозами; планами реалізації інвестиційних проектів; паливно-енергетичними балансами 2007-2009рр. та на період 2010-2025рр.; вартісними балансами 2007-2009рр. та на період 2010-2025рр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рограмою поетапного впровадження заходів з оптимізації схеми теплопостачання, енергоефективної реконструкції об’єктів централізованої системи теплопостачання м. Луцька та зменшення споживання природного газу передбачаються до реалізації наступні заход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конструкція котельних агрегатів із заміною газо-пальникових пристрої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дернізація котельних із заміною низько ефективних котлів – типу НІІСТУ, Універсал, Е 1/9 на сучасн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іквідація малоефективних котелень, влаштованих в підвалах житлових будинк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дернізація і реконструкція малоефективного обладнання та перехід на місцеві, альтернативні види пали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міна застарілих кожухотрубних швидкісних водопідігрівачів на більш ефективні теплообмінники пластинчатого тип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влаштування індивідуальних теплових пунктів (ІТП) та усунення «перетопів» в житлових будинках в перехідний період (осіннє-зимовий та зимово-весняни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тановлення частотних регуляторів на насосах, вентиляторах та димососах, що працюють із змінним навантаженн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иження втрат в існуючих мережах і зниження ремонтних та капітальних витрат за рахунок застосування енергозберігаючих технологій і заміни існуючих, що відпрацювали свій ресурс трубопроводів на попередньо ізольовані, що мають більш тривалий термін експлуатації та дуже низькі тепловтра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меншення обсягів споживання природного газу на 33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меншення обсягу шкідливих викидів та парникових газів в атмосферу та зниження екологічного навантаження на навколишнє середовищ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2:46:52Z</dcterms:created>
  <dc:creator>Дмитро</dc:creator>
  <dc:description/>
  <dc:language>en-US</dc:language>
  <cp:lastModifiedBy>sheremeta</cp:lastModifiedBy>
  <dcterms:modified xsi:type="dcterms:W3CDTF">2012-06-15T11:26:38Z</dcterms:modified>
  <cp:revision>12</cp:revision>
  <dc:subject/>
  <dc:title>ЛУЦЬКА МІСЬКА РАДА</dc:title>
</cp:coreProperties>
</file>