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10.wmf" ContentType="image/x-wmf"/>
  <Override PartName="/ppt/media/image7.wmf" ContentType="image/x-wmf"/>
  <Override PartName="/ppt/media/image11.jpeg" ContentType="image/jpeg"/>
  <Override PartName="/ppt/media/image8.wmf" ContentType="image/x-wmf"/>
  <Override PartName="/ppt/media/image9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7A934-6D58-4977-9D2B-D4124545CF2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МІ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E7763-B458-4F73-BA58-98570E06AF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8F5E-C2BE-4056-BD16-FE6B85A05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37AC-E33D-4AAE-B5B5-B7473FA32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E672-D190-4750-8A77-F7785FCB9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3543-4039-4A98-87EC-68E00D84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880F-2D43-47DB-84D5-7F11B11B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D7B1-D563-4754-9F56-A11E4702E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617D-6A5A-41D1-B182-EE27AB30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E919-11FF-4A6D-AD14-2ABCDD01A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EB428-F8C7-445E-94DD-13254EF23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4C2C-7598-4126-A64A-BDF3314D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308A-23AE-43DC-9F75-AD916CACF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04895B-7671-4751-9FBB-30A69B70DA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7.wmf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7308720" y="260280"/>
            <a:ext cx="157320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504720" y="166680"/>
            <a:ext cx="8134560" cy="6524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8101080" y="189000"/>
            <a:ext cx="817560" cy="9363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395280" y="1600200"/>
            <a:ext cx="835344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Схема теплопостачання міста Луцьк розроблена згідно з «Технічним завданням на розроблення схеми теплопостачання», підготовленим спеціалістами державного комунального підприємства "Луцьктепло" та узгодженим з виконавчим комітетом Луцької міської ради, на виконання Закону України “Про теплопостачання” і у відповідності з Методичними рекомендаціями з розроблення енерго- та екологоефективних схем теплопостачання населених пунктів України (затверджені наказом Міністерства будівництва архітектури та житлово-комунального господарства України від 26 квітня 2006 р. № 147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кономічний ефект обумовлений заміщенням природного газу на альтернативні види палива, зокрема відходів деревини та електроенергії, а також встановленням високоефективного газового обладнання. При копітальних затратах 135,5 млн.грн. річна економія коштів складе – 46,7 млн. грн. Скорочення споживання природного газу – 20,66 млн. м3/рік. Термін окупності заходів схеми теплопостачання складе – 2 роки 9 місяц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м. Луць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Населення – 206,5 тис.чо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– 42 к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ротяжність – 15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Ширина – 10 к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Житловий фонд – 11121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5 поверх. І вище – 2460 бу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Площа ж.ф. – 4041.3 тис. м</a:t>
            </a:r>
            <a:r>
              <a:rPr b="0" lang="uk-UA" sz="1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09640" y="333360"/>
            <a:ext cx="1951200" cy="2232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492360" y="476280"/>
            <a:ext cx="5104080" cy="55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323640" y="1844280"/>
            <a:ext cx="85690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Мета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Скорочення споживання природного газу за рахунок заміни існуючого теплоенергетичного обладнання на високоефективне газове обладнання та перевід газових котелень бюджетної сфери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 u="sng">
                <a:solidFill>
                  <a:srgbClr val="000000"/>
                </a:solidFill>
                <a:uFillTx/>
                <a:latin typeface="Times New Roman"/>
              </a:rPr>
              <a:t>Завдання схеми теплопостачанн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Рконструкція системи теплозабезпечення м. Луцьк з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ліквідацією нерентабельних підвальних котелен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влаштування високоефективного газового устаткуван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Times New Roman"/>
              </a:rPr>
              <a:t>перевід газових котелень на альтернативний вид палив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812000" y="260280"/>
            <a:ext cx="113364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68000" y="1196640"/>
            <a:ext cx="84358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400" spc="-1" strike="noStrike">
                <a:solidFill>
                  <a:srgbClr val="000000"/>
                </a:solidFill>
                <a:latin typeface="Arial"/>
              </a:rPr>
              <a:t>Теплова потужність котелень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а – 487,93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Приєднана – 259,36 Гкал/год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котелень – 6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встановлених котлів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80 одиниць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- 127 одиниць з терміном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експлуатації більше 20 років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ЦТП – 51 одиниця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Кількість ІТП – 3 одиниці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Теплові мережі – 138,9 км.</a:t>
            </a: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940360" y="4076640"/>
            <a:ext cx="3024360" cy="2592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684360" y="981000"/>
            <a:ext cx="497340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3743280" cy="2335320"/>
          </a:xfrm>
          <a:prstGeom prst="rect">
            <a:avLst/>
          </a:prstGeom>
          <a:ln w="0">
            <a:noFill/>
          </a:ln>
        </p:spPr>
      </p:pic>
      <p:pic>
        <p:nvPicPr>
          <p:cNvPr id="60" name="Диаграмма 5" descr=""/>
          <p:cNvPicPr/>
          <p:nvPr/>
        </p:nvPicPr>
        <p:blipFill>
          <a:blip r:embed="rId2"/>
          <a:srcRect l="0" t="0" r="-49" b="-214"/>
          <a:stretch/>
        </p:blipFill>
        <p:spPr>
          <a:xfrm>
            <a:off x="324000" y="4076640"/>
            <a:ext cx="4140000" cy="2397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4211640" y="1557360"/>
          <a:ext cx="4932360" cy="530064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211640" y="1557360"/>
                    <a:ext cx="4932360" cy="53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7894800" y="260280"/>
            <a:ext cx="10062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атрати на енергоносії в місті Луць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(2011-2025 гг.)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гноз росту затрат на оплату ПЕР до 2025р.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7885080" y="189000"/>
            <a:ext cx="880920" cy="1008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324000" y="2349360"/>
            <a:ext cx="4176720" cy="24386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4572000" y="2349360"/>
            <a:ext cx="4321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250920" y="1557360"/>
          <a:ext cx="4537080" cy="4199040"/>
        </p:xfrm>
        <a:graphic>
          <a:graphicData uri="http://schemas.openxmlformats.org/drawingml/2006/table">
            <a:tbl>
              <a:tblPr/>
              <a:tblGrid>
                <a:gridCol w="865080"/>
                <a:gridCol w="934920"/>
                <a:gridCol w="1008360"/>
                <a:gridCol w="865080"/>
                <a:gridCol w="863640"/>
              </a:tblGrid>
              <a:tr h="15858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ник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іна енерго-носія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рн за од (м3, кг, л, кВт*год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о-жність палива, ккал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пло-творна спром-ожність паливакВт/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Ціна кВт енергії (грн/кВт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рф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угіл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6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5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0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рево щеп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3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8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а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зу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Електроенергі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6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0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4356000" cy="492912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7956720" y="26028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Розроблена Схема теплопостачання включає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ояснювальну записку з аналізом загальної характеристики м.Луцьк; аналіз існуючої системи теплопостачання міста; потребу міста у тепловій енергії з урахуванням перспектив розвитку; загальними пропозиціями по впровадженню заходів щодо модернізації і реконструкції існуючих джерел теплової енергії і теплових мереж; рекомендаціями з теплопостачання міста на розрахунковий період; варіантами схем теплопостачанн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Графічну частину із схемою теплових мереж м. Луць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Техніко-економічні розрахунки ефективності інвестиційних проекті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Енергетичне обстеження систем теплопостачання міста у період 2007-2009рр. Із описом бази даних енергоспоживання; зведеними формами обліку витрат енергоресурсів; тарифами; формами приведеної вартості енергоресурсів; питомими витратами енергоносії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Arial"/>
              </a:rPr>
              <a:t>Проект перспективного паливно-енергетичного балансу із тарифними прогнозами; планами реалізації інвестиційних проектів; паливно-енергетичними балансами 2007-2009рр. та на період 2010-2025рр.; вартісними балансами 2007-2009рр. та на період 2010-2025рр.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uk-UA" sz="1600" spc="-1" strike="noStrike">
                <a:solidFill>
                  <a:srgbClr val="000000"/>
                </a:solidFill>
                <a:latin typeface="Arial"/>
              </a:rPr>
              <a:t>Програмою поетапного впровадження заходів з оптимізації схеми теплопостачання, енергоефективної реконструкції об’єктів централізованої системи теплопостачання м. Луцька та зменшення споживання природного газу передбачаються до реалізації наступні заход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Реконструкція котельних агрегатів із заміною газо-пальникових пристрої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котельних із заміною низько ефективних котлів – типу НІІСТУ, Універсал, Е 1/9 на сучасні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Ліквідація малоефективних котелень, влаштованих в підвалах житлових будинкі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Модернізація і реконструкція малоефективного обладнання та перехід на місцеві, альтернативні види пали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аміна застарілих кожухотрубних швидкісних водопідігрівачів на більш ефективні теплообмінники пластинчатого типу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влаштування індивідуальних теплових пунктів (ІТП) та усунення «перетопів» в житлових будинках в перехідний період (осіннє-зимовий та зимово-весняний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Встановлення частотних регуляторів на насосах, вентиляторах та димососах, що працюють із змінним навантаженням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ниження втрат в існуючих мережах і зниження ремонтних та капітальних витрат за рахунок застосування енергозберігаючих технологій і заміни існуючих, що відпрацювали свій ресурс трубопроводів на попередньо ізольовані, що мають більш тривалий термін експлуатації та дуже низькі тепловтра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ів споживання природного газу на 33 %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000000"/>
                </a:solidFill>
                <a:latin typeface="Arial"/>
              </a:rPr>
              <a:t>Зменшення обсягу шкідливих викидів та парникових газів в атмосферу та зниження екологічного навантаження на навколишнє середовищ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956720" y="189000"/>
            <a:ext cx="94428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6T12:46:52Z</dcterms:created>
  <dc:creator>Дмитро</dc:creator>
  <dc:description/>
  <dc:language>en-US</dc:language>
  <cp:lastModifiedBy>sheremeta</cp:lastModifiedBy>
  <dcterms:modified xsi:type="dcterms:W3CDTF">2012-06-15T11:26:38Z</dcterms:modified>
  <cp:revision>12</cp:revision>
  <dc:subject/>
  <dc:title>ЛУЦЬКА МІСЬКА РАДА</dc:title>
</cp:coreProperties>
</file>